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C11-0D14-4752-AE91-ABFF968E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A66-14DA-497A-8058-BE8DE3E3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9CF-7CA3-4FB2-AD3C-69598237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D54-2BB6-4C9D-AFC3-A83C7496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BCE7-AC08-41CA-A87A-5CBB9036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BB20-2D39-4C27-B913-FE14F55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6173-484F-4A33-9747-6609E92E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A7CF-2205-4ED0-A80F-660F3F77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DEC5-FC78-4E3C-A97F-E3E16B80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1D7B-CA06-418D-8BE9-80566ACD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F060-37AA-4A88-A75B-8090F4D4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D13-70BF-49A2-A98D-DC815EFF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C934-E2F7-431C-9EA7-45F85B7D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5BC8-B7FC-4082-9233-0C9AF29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5C06-9DF4-4DEB-A2D9-7698A223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7DED-1234-4459-B764-2C2DDD69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F0D5-83C6-4637-A766-B1D7CC11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C34-636A-4A9C-840C-1A410BF3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FFC-2882-4967-BDEE-BF16EAF3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4DB-C880-4F9D-8A67-D2368FB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F5B-E03B-4F6C-AFD5-2B6ECA45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A90-9AA5-414D-9584-3B2627DF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1B9-6C06-4202-BE96-7E30BB7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859-B57C-4375-A326-F5F4D8E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857B-D33E-4BF0-A663-41EA35E59E9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8A24-DB74-4823-9108-FA7D1C184E2B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25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250aec"/>
                </a:solidFill>
                <a:latin typeface="Gill Sans Ultra Bold"/>
              </a:rPr>
              <a:t>Perché vediamo il riflesso della luce nella bolla?</a:t>
            </a:r>
            <a:r>
              <a:rPr b="1" lang="it-IT" sz="3500" spc="-1" strike="noStrike">
                <a:solidFill>
                  <a:srgbClr val="669999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9" descr="y1py_nZzfev1fMRq_XobTdfaIPDYkPG8dgTvIaMlS1mXkIa0qPgw_uNwIdWcjuyRVIST7v0zP75hF4"/>
          <p:cNvPicPr/>
          <p:nvPr/>
        </p:nvPicPr>
        <p:blipFill>
          <a:blip r:embed="rId1"/>
          <a:stretch/>
        </p:blipFill>
        <p:spPr>
          <a:xfrm>
            <a:off x="250920" y="1557360"/>
            <a:ext cx="6481800" cy="507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6804000" y="3789360"/>
            <a:ext cx="2163960" cy="2865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2.77457E-006 L -8.33333E-007 2.77457E-006 E">
                                      <p:cBhvr>
                                        <p:cTn id="1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908000" y="26028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50aec"/>
                </a:solidFill>
                <a:latin typeface="Arial"/>
              </a:rPr>
              <a:t>Dipende prima di tutto dallo spessore della b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564000" y="1989000"/>
            <a:ext cx="4968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50aec"/>
                </a:solidFill>
                <a:latin typeface="Arial"/>
              </a:rPr>
              <a:t>La luce incontra la bolla e alcuni raggi vengono riflessi dalla superficie a contatto con l’aria,cioè es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5280" y="4005360"/>
            <a:ext cx="44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50aec"/>
                </a:solidFill>
                <a:latin typeface="Arial"/>
              </a:rPr>
              <a:t>Altri entrano all’interno della bolla e vengono riflessi solo che hanno avuto una deviazione da parte dello spessore della b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 rot="21463800">
            <a:off x="394920" y="620280"/>
            <a:ext cx="1866960" cy="3210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2"/>
          <a:stretch/>
        </p:blipFill>
        <p:spPr>
          <a:xfrm rot="288600">
            <a:off x="6659640" y="4221000"/>
            <a:ext cx="144288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3141360"/>
            <a:ext cx="460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Gill Sans Ultra Bold"/>
              </a:rPr>
              <a:t>Queste riflessioni scontrandosi creano il riflesso della luce nella b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0066"/>
                </a:solidFill>
                <a:latin typeface="Gill Sans Ultra Bold"/>
              </a:rPr>
              <a:t>Lo scontro delle riflessioni dipende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39640" y="177336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Dallo</a:t>
            </a:r>
            <a:r>
              <a:rPr b="0" lang="it-IT" sz="18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spessore della b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500720" y="5013360"/>
            <a:ext cx="295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Dalla lunghezza d’o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003640" y="2637000"/>
            <a:ext cx="3600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Dall’ angolo con cui la luce incide sullo spessore. (iridescen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41367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324000" y="293760"/>
            <a:ext cx="8496000" cy="6230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ff"/>
                </a:solidFill>
                <a:latin typeface="Gill Sans Ultra Bold"/>
              </a:rPr>
              <a:t>E perchè la bolla ha tutti questi colori se la luce che la illumina è bianca??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979640" y="522936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ché la luce bianca,e quindi anche quella solare,ha dentro di se tutti i colori della boll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0066"/>
                </a:solidFill>
                <a:latin typeface="Gill Sans Ultra Bold"/>
              </a:rPr>
              <a:t>Ciao Ragazzi!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Ambra Domen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Mery Ric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sellaDiTesto 4"/>
          <p:cNvSpPr/>
          <p:nvPr/>
        </p:nvSpPr>
        <p:spPr>
          <a:xfrm>
            <a:off x="5580000" y="3068640"/>
            <a:ext cx="252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sellaDiTesto 5"/>
          <p:cNvSpPr/>
          <p:nvPr/>
        </p:nvSpPr>
        <p:spPr>
          <a:xfrm>
            <a:off x="4932360" y="3068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Elena Cu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sellaDiTesto 6"/>
          <p:cNvSpPr/>
          <p:nvPr/>
        </p:nvSpPr>
        <p:spPr>
          <a:xfrm>
            <a:off x="1116000" y="3357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Elisa</a:t>
            </a:r>
            <a:r>
              <a:rPr b="0" lang="it-IT" sz="18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Bugo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9:42:05Z</dcterms:created>
  <dc:creator>Liceo Rinaldini</dc:creator>
  <dc:description/>
  <dc:language>en-US</dc:language>
  <cp:lastModifiedBy>Laura Polenta</cp:lastModifiedBy>
  <dcterms:modified xsi:type="dcterms:W3CDTF">2011-05-08T16:50:35Z</dcterms:modified>
  <cp:revision>20</cp:revision>
  <dc:subject/>
  <dc:title>Diapositiva 1</dc:title>
</cp:coreProperties>
</file>